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39"/>
          </p:nvPr>
        </p:nvSpPr>
        <p:spPr>
          <a:xfrm>
            <a:off x="388440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40"/>
          </p:nvPr>
        </p:nvSpPr>
        <p:spPr>
          <a:xfrm>
            <a:off x="-3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 type="sldNum" idx="41"/>
          </p:nvPr>
        </p:nvSpPr>
        <p:spPr>
          <a:xfrm>
            <a:off x="388440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CF07-9EB0-450A-B84C-34AC6CE65451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F4E8-F24E-4B2A-A849-A16E70859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EADA-47F0-493E-8004-9813F1542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1754-B617-481A-BC2B-F7E5FB80D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7D59-796D-46EC-9ADD-074EBA7C5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62F5-A020-4BA5-A2BA-B133BB2EF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6640-FD63-4E24-810C-271EACBBF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A62C-9636-4B6C-AB2B-19981A9A0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653D-71F5-49AC-8FAA-B1690632E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035F-B3D2-4415-A9F9-625F067BA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7AAF-8BF6-470C-BEA7-AAD4AFBE6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466C-7E61-4AAF-B634-3B28D3A3B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A7C5-D703-46DF-A234-937C66A4D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08B1-7C93-417C-B156-F09CF98B3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2D10-F537-46F2-A622-DDB148C70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1D43-5541-4ECD-98E7-4DFDE8E45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6ACD-C1BD-4080-ABCD-70F3DCB55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8497-34BE-49EF-91D6-54FA86D7D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5330-35AD-422A-BA3C-AA912F530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903A-4507-4460-8109-2F40A313E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D3E7-957A-480A-AE62-71B33D61D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D957-516B-40B8-AA6E-46265C605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75E5-5FEB-4C12-A55D-74C3EE2E6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6BA2-8CEA-4181-BBE1-239E00921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5310-221E-4DD3-9F49-0A0BDFE09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6AA0-B6A0-4A6E-B9A1-E9AE5FC9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F023-53D1-4FC4-B8A5-7DED5C31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E3BD5-03D0-4E1A-8EF5-9BB85727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BD308-0EB6-460F-925D-CFC81DEC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A9F99-E9A6-4E0D-996E-4EE0E970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07618-0DF5-42D6-B35D-59D268A5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9055F-B321-4D1E-83E6-44FAB6A4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E1F73-F48D-4EA5-A733-EAC2A62A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EF0EB-4D6A-45AB-8596-6348A072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83F84-CC38-4BA4-9298-C4F56E377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F4A9B-1D77-49E6-A47E-5740E237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3A9AD-FDBA-46CF-890D-4A39AAD2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3CFF-D095-4108-8215-6FC9558C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8ED90-CE35-4EA6-A396-DD9DF2D4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1300C-D781-4F59-A18C-1F701C54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14304-9C31-416B-8054-8C1F5D52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F16FD-7FCD-4499-916B-274BD6D9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2FF5D-BAA9-49EF-A58E-02045DB9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A6A33-2C86-45CB-8A1D-55863B94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D48A3-9EB5-4399-B36B-9B058890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3AAEB-76A2-4C21-85C6-33C146FC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77D2A-B9BF-4421-A233-A86BC9FF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B9A5D-933B-4994-B954-565DD92EE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E2AC-8B2D-4AD6-B5C1-728225CC6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14ECE-C5F8-4C8A-A84E-5D24B8DE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3B93A-0FDA-4A80-9257-7B8BD99C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A3188-EF3E-4CB8-B171-D65FEBC1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0B7AA-F24D-4E6D-8C16-83CC4A75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348F1-AF1F-4767-9CB5-045F1BA7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4BD22-5EE1-452D-B5CE-1EB8AD70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EC73B-2789-4A52-9A8C-3968A21F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E6886-E978-491A-9BBD-503ACEC3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8C6CB-A89A-4A1D-9B93-C1443231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11B80-04A5-4E17-86EE-48C3F3D7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B012-9ED7-4331-869D-A8B36C535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3298F-D778-496E-BD21-7C9DB474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688B9-798B-4966-825B-9E1A0ABC2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F0FD3-C74F-4600-A302-37CE77C9B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3E44B-8AB6-42A8-B8E1-B4579C78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123F36-4324-417D-A964-3F376202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17418-6664-49FB-9BC5-34C8E79B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606D2-3F58-4CA8-8844-C55DAA35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09FBEE-1275-4E0C-913D-846B1301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974AD-2C8E-4E72-9540-58A893F8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40E7F-ED3D-4E97-B001-24082A5A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09BE-B3E0-4372-8001-75AE9DF8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068FD-1C36-4989-AE6D-55DF113E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C73C7-9EC9-451A-B1CC-FDA331EA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5F00F-9B8A-4464-9799-790D11CF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7F57D-62AB-4F4F-9926-223F9BFF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AE0A07-692A-42EB-AF8F-313C31BEA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8B1EF1-B408-4880-A7FA-9EAE9296CC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39451B-9DC4-4362-9AF9-04611C76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3DA273-EAB2-44E1-B0DE-2831C06F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22FE23-3954-4469-AB71-B25F25A3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C53D71-037C-4A43-9A20-40D9B9C4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B88C-913A-4AC6-886B-ABD21FA2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021B4B-2691-428F-81A0-E6004FF4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6D938B-5419-471B-AB53-1F66BDD5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7F6BAF-4522-457E-8C71-54E6E2F1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FFA73A-50D0-46C7-9760-FFC1F29A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B76A04-0FA3-49CD-8060-6308ED28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E8EFF6-D2EF-4084-A235-0837686F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736534-DE50-4499-ACF5-EFDC8C4016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B8F1-854C-4060-A343-2B191937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5202-F4A3-44DC-8721-D93B8C86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4DF1-CF4E-46EE-B74D-6AED7862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DB6C-1863-4872-93C1-377B4510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F471-B9E7-400F-920A-1468A518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7875-743C-4462-8D83-9A9FE2A3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3E13-10F4-401A-9BCB-311F3D43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07EE-D315-45A3-ADDE-BC43871E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225A-346B-4511-A6E0-80142B4B4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2E9B-804E-49F6-8096-27289B8A0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3B3A6-D95D-4FC8-A747-2FB8C555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704FC-289D-4125-B4CD-B455F84C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C8850-6476-4EC4-B464-B412A8D8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2C6BE-A9CF-4638-BD31-D6CADF09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677AA-B5EC-497E-997F-6A0C1884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D68C-709E-4C60-9DA6-1B42870E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FB062-683F-42CE-BC8A-9C283E4A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CA3DF-80EB-4145-B79F-17244CC4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824E4-D282-4653-8753-9C49697B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09C59-08D1-43C8-AEDC-3D3268AF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D6388-B397-4FF0-B360-3CEFF9FF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ECE35-EC7F-4DCF-832E-FA5ECC42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53A01-3F16-42F0-A0B4-984EA1970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62435-D733-4870-9BCA-40ACF7F4C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8C16F-6557-4A67-936B-8B6C460B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55F99-2008-47FC-B874-6601EB5F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6A85-9039-49DC-989F-4E840FC0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E7A55-9AAD-4021-8A9A-E7139F6B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AD6C4-A9BB-4644-B5DB-5874B699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88066-5909-472A-B064-568FC307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72AA8-7169-4540-BF33-B4A4ADB0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1EF5E-19F9-48A1-8CC3-75046E76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C4BD1-2AE6-4A0A-A763-9C6F6AC8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07E20-968F-42AB-8F69-B52580AB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89DF0-C44A-4265-925B-FE3D4052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73F6C-53C7-4E9E-9E4F-C15DC10A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59E4E-F16B-46F1-8F51-674396DD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E527-A1F7-44FF-B2B8-E5AA6FB1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861F3-6B10-423A-8EBD-543E1976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B2E99-C62A-47F9-BE07-8D80C1DF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9AFEF-BC6D-453B-BAD8-308D4706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A87FB-83EA-4C0A-858C-8DE3944F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E74C5-9F01-4CBF-BC32-CEA7F71B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72165-78C5-4676-A439-A23F7330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13AEC-C52B-4D82-B405-50EAE915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A61E9-615A-43C7-8EAC-AD8631FC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54239-59CE-45E3-8B41-C013F09A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82694-8EAB-4EA3-BE67-30ED7D98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2553-B2DD-4C81-AF09-5679CC7A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07135-2561-4C3A-8116-746026BB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33085-3902-4A15-A990-3EA5204B3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D32D4-B423-4651-9015-47A64061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C4669-5B35-4CE4-99DD-639C2ACE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BFF53-A865-4A44-8125-699F7D81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D2F35-CC76-4BD1-A0DB-F03BFED7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E7570-8765-4A4C-B645-512BC75B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09DBB-5355-43FD-9AD9-89AFB510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72146-57DD-4708-9AF0-86A2914C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8A930-6D3C-4578-8BCD-602E3EE7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FCD9-20A2-462F-9D06-2DEE43C0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D29A1-B7E6-4749-A6C7-41B5B109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1F380-8B8E-49CE-87D0-61FE0366A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DAB63-0F71-43A1-95BA-56B6B95B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3ACA5-F032-4BE4-B433-39325A3BA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EE468-5C0E-43F5-8F42-29B73832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AFF05-3E7B-43F2-9673-06F61E96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C6A17-F271-4388-8172-907C4DA7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8FD3C-49DD-4426-A044-49B53A79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00ED2-F8CF-41B5-AE11-7F4A8813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DAF46-5731-4C21-AEC4-8E7A0A1B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D7CC-E90A-44CE-A0E5-5B583EC7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551F0-ECE3-4B84-91C0-90D02F05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C95D8-4E0C-402A-B8B6-991DD6EA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5C414-D303-40CA-AB04-E22C6D92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DDFB8-FD42-4D6B-B8D6-50DDE0825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98B42-2AD2-4CD2-B86F-0610046BC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5BD88-0B13-47FF-A4D8-B08E13C3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99B55-C66E-4B32-A26B-8B6DBE9C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73935-D906-4580-B835-7BACDB5D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FF1BC-9609-45FE-8F44-BE27B7AA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72BF0-71CE-4B2C-A5CF-2953D7BE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018B-E8F5-470F-92E5-6FEB77E3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FCC5D-F926-453C-9128-002FA453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67D50-F788-4665-B0CA-9CED46A2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0E294-9647-480D-87F1-F10D66F4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59FA1-38D8-4A4A-8345-DA3A6297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57086-5255-4B8F-9909-ED208231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69896-2884-4AD0-A283-7E25568F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33FDD-87A6-43EA-B542-3216556CE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3685A-0B72-4B0C-9F56-885996006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338F1-CF5C-453D-87F3-2583EA2C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399A2-4B1F-43C8-B827-8AB41783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3510-A67F-4824-B99F-5012164DA75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6DB3-20BB-4470-B4E7-3CBF2286574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8072-98C9-46EF-A378-CF1D4137FD3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3302-1172-4ED5-A2C8-3C0CFA11521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3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3577-E25E-411E-BB43-46385C7CF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9EF9-1414-49A1-9162-D65806D734D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32C7-211B-47FF-A5F0-3C2AFC7BB3C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2E27-7E2E-47BF-97CC-48DDED1C95D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BB4C-38B3-4A75-9F07-3807C63D29E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EFA4-D5F8-4DED-9EDD-E1DA3D599C9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604E-FCF5-47EE-97F3-639A2FABBB3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7EB5-3A5A-4C3F-A229-4F03F21B0C8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51D7-E724-4F46-A267-55C1E01042F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13 - Ορθογώνιο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Ακαδημαϊκού Έτους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0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-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1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14 - Ορθογώνιο"/>
          <p:cNvSpPr/>
          <p:nvPr/>
        </p:nvSpPr>
        <p:spPr>
          <a:xfrm>
            <a:off x="1332000" y="4437000"/>
            <a:ext cx="6875280" cy="13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15 - Ορθογώνιο"/>
          <p:cNvSpPr/>
          <p:nvPr/>
        </p:nvSpPr>
        <p:spPr>
          <a:xfrm>
            <a:off x="826920" y="5805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Σπυριδούλα Κατσαντών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9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0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1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5" name="12 - Εικόνα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3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Philip Whitaker (2007) μελέτησε τις στάσεις και τις απόψεις των γονέων απέναντι στ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ιδιά με αυτισμό τα οποία λαμβάνουν εκπαίδευση σε σχολεία γενικής εκπαίδευσης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αποτελέσματα της έρευνάς τους έδειξαν ότι οι περισσότεροι απ’ τους συμμετέχοντες γονεί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ναι ικανοποιημένοι απ’ τη μέριμνα για την εκπαίδευση των παιδιών του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22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23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Ωστόσο τόσο οι ικανοποιημένοι γονείς όσο κι η ομάδα των γονέων που δεν ήτα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κανοποιημένοι αναφέρθηκαν στην κατανόηση που το παιδί τους λαμβάνει απ’ το προσωπικ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ου παρέχει τη μέριμνα και η κατανόηση του παιδιού τους ήταν υψίστης προτεραιότητας κ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ια τις δύο ομάδες. Οι ανησυχίες για το επίπεδο κατανόησης αποτελούσε σαφώς ενδεχόμεν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ηγή στρες και αγωνίας και για τις δύο ομάδε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31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32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5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94920" y="139212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δεν φαίνεται να αναμένουν απ’ το προσωπικό της γενικής εκπαίδευσης να έχει εξειδικευμένε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νώσεις για συγκεκριμένες προσεγγίσεις στη διδασκαλία παιδιών με αυτισμό και εκτός απ’ τ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να θέλουν άμεση διδασκαλία για την ανάπτυξη κοινωνικών δεξιοτήτων, δεν φαίνονταν ν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ζητούν ουσιώδη τροποποίηση στη διδακτέα ύλη ώστε να ληφθούν υπόψη οι δυσκολίες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ετίζονται με τον αυτισμό των παιδιώ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4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41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4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λληλα, σε έρευνα των Turnbull et al. (2002) διαπιστώθηκε πως οι θετικές στάσεις απ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ονείς παιδιών με πιο σοβαρές ειδικές ανάγκες απέναντι στην ένταξη φαίνεται να είναι 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νόνας. 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4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5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Rectangle 1"/>
          <p:cNvSpPr/>
          <p:nvPr/>
        </p:nvSpPr>
        <p:spPr>
          <a:xfrm>
            <a:off x="0" y="162864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353440" cy="465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ια παράδειγμα, αρκετές μελέτες με γονείς παιδιών με σοβαρές ειδικές ανάγκες σ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ογράμματα ένταξης από την προσχολική ηλικία έως και το Γυμνάσιο έδειξαν ότι οι γονεί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υποστήριζαν την τοποθέτηση των παιδιών τους σ’ αυτά και εξέφρασαν ικανοποίηση για τ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ποτελέσματα της εκπαίδευσης, ιδιαίτερα για τα κοινωνικά οφέλη (Gallagher et al., 2000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line &amp; Halvorsen, 1989; McDonell, 1987; Palmer, Borthwick-Duffy, &amp; Widaman, 1998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58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59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φορικά με την ικανοποίηση των γονέων από τα εκπαιδευτικά προγράμματα παρέμβασ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α παιδιά με ειδικές εκπαιδευτικές ανάγκες στην διεθνή βιβλιογραφία, παρατηρείται υψηλό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βαθμός ικανοποίησης και διατυπώνονται θετικές στάσεις και απόψε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McNaughton,1994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William et all.,1995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67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68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1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3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γκεκριμένα, σε έρευνα που πραγματοποιήθηκε στον Καναδά και μετρούσε τον βαθμ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κανοποίησης των γονέων για τα προγράμματα παρέμβασης, οι γονείς εξέφρασαν μεγάλ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κανοποίηση και δήλωσαν αρκετά ευχαριστημένοι από το εκπαιδευτικό έργο που παρέχεται στ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ολείο του παιδιού τους ( Falbo et.all,200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76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77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0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640720" cy="48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λληλα ,σε άλλη έρευνα, που μετρούσε την ικανοποίηση των γονέων σχετικά με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οιότητα των εκπαιδευτικών υπηρεσιών, βρέθηκε μεγάλος βαθμός ικανοποίησης ο οποί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νδέεται με την αποτελεσματική επικοινωνία του σχολείου με τον γονέα ,καθώς και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παρκή πληροφόρηση των ίδιων από τους εκπαιδευτικούς(Bailey et all., 2003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85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86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640720" cy="48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πό την άλλη πλευρά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άποιοι άλλοι ερευνητές ανέφεραν ότι μερικοί γονείς παιδιών με σοβαρές ειδ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άγκες δεν είναι υπέρ της ένταξ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Palmer, Fuller, Arora, &amp; Nelson, 200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94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95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8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ρευνα που έγινε σε πολιτεία των ΗΠΑ (Mandell &amp; Salzer, 2007) έδειξε ότι οι γονείς παιδιώ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 πιο σοβαρές αναπηρίες τα οποία συμμετείχαν σε τμήματα ένταξης, ανέφεραν αρνητ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άσεις η εμπειρίες ως προς την τοποθέτηση των παιδιών τους, καθώς οι υπηρεσίες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έχονταν τα παιδιά τους στο περιβάλλον γενικής εκπαίδευσης χαρακτηρίστηκαν αδύναμες κ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εδόν ακατάλληλε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03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04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7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63640" y="1391760"/>
            <a:ext cx="7596000" cy="239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Απόψεις Γονέων παιδιών με ειδικές εκπαιδευτικές ανάγκες για την ένταξη των μαθητών  με εεα/αναπηρίες 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4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5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Rectangle 1"/>
          <p:cNvSpPr/>
          <p:nvPr/>
        </p:nvSpPr>
        <p:spPr>
          <a:xfrm>
            <a:off x="147636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  <p:sp>
        <p:nvSpPr>
          <p:cNvPr id="556" name="10 - Ορθογώνιο"/>
          <p:cNvSpPr/>
          <p:nvPr/>
        </p:nvSpPr>
        <p:spPr>
          <a:xfrm>
            <a:off x="1332000" y="467532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Παναγιώτης Ν. Μαντά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Άλλες ανησυχίες που αναφέρθηκαν από γονείς παιδιών με ειδικές εκπαιδευτικές ανάγκες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μπεριλαμβάνουν ανησυχίες για λεκτική και σωματική κακομεταχείριση από τα άλλα παιδιά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οινωνική απομόνωση, και απώλεια ή μείωση των υπηρεσιών και της ποιότητας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ίδευσης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Donnell, 1987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12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13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6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Rectangle 1"/>
          <p:cNvSpPr/>
          <p:nvPr/>
        </p:nvSpPr>
        <p:spPr>
          <a:xfrm>
            <a:off x="971640" y="184464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9640" y="1392120"/>
            <a:ext cx="835344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Palmer et al. (2001) ανέφεραν ότι οι γονείς ανησυχούσαν ότι η σοβαρότητα της αναπηρίας του παιδιού τους εμπόδιζε τα οφέλη που θα μπορούσαν ν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χαν από την ένταξη, ότι η ένταξη θα μπορούσε να εξουθενώσει τους εκπαιδευτικούς της γενικής εκπαίδευσης ή τους μαθητές, και ότι το παιδί συμπεριφορικά ήταν υπερβολικά διασπαστικό και θα μπορούσε να πληγώσει τους άλλου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όμοιες ανησυχίες από Αυστραλούς γονείς αναφέρθηκαν και από τον Jenkinson (1998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21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22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5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71640" y="126828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 τις ανησυχίες που εξέφρασαν κάποιοι γονείς, σε έρευνα του Philip Whitaker (2007)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εωρήθηκε εξίσου σημαντικό για τους γονείς το γεγονός ότι το προσωπικό θα πρέπει να έχε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άποια αίσθηση για το τι βρίσκεται κάτω απ’ τις προκλήσεις και τις δυσκολίες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ουσιάζονται για το παιδί αλλά και κάτω από τις εμπειρίες που αυτό βιώνε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3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31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Rectangle 1"/>
          <p:cNvSpPr/>
          <p:nvPr/>
        </p:nvSpPr>
        <p:spPr>
          <a:xfrm>
            <a:off x="10429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496000" cy="48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ην ίδια έρευνα, σημειώθηκε πως υψίστης προτεραιότητας για τους γονείς ήταν η ανάπτυξ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οινωνικών δεξιοτήτων του παιδιού του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διαφοροποιούνταν επίσης ως προς τ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ιλοδοξίες τους σχετικά με την κοινωνική ανάπτυξη των παιδιών τους και τις σχέσεις τους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υς συνομηλίκους του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3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4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4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78920" y="981000"/>
            <a:ext cx="8496360" cy="48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ενικότερα, αν και υπάρχουν πολλά στοιχεία που αναφέρουν ότι οι στάσεις των γονέ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πέναντι στην ένταξη καθορίζονται από διάφορους παράγοντες, δημογραφικά χαρακτηριστικά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κοινωνικοπολιτιστικά πλαίσια (Sigel et al., 1992)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Stoiber (1992) αναφέρει ότι οι στάσε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οι αντιλήψεις των γονέων παιδιών με ειδικές εκπαιδευτικές ανάγκες για την ένταξ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νήθως βασίζονται σε δικές τους προσωπικές εμπειρίες και τείνουν να χαρακτηρίζοντ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ετικές και ικανοποιητικέ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48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49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3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63640" y="907560"/>
            <a:ext cx="759600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Απόψεις Γονέων παιδιών με ειδικές εκπαιδευτικές ανάγκες για την ένταξη των μαθητών  με εεα/αναπηρίες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Παναγιώτης Ν. Μαντά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57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58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1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2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3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14 - Ορθογώνιο"/>
          <p:cNvSpPr/>
          <p:nvPr/>
        </p:nvSpPr>
        <p:spPr>
          <a:xfrm>
            <a:off x="395280" y="3573360"/>
            <a:ext cx="8137440" cy="24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0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767" name="12 - Εικόνα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768" name="5 - Ορθογώνιο"/>
          <p:cNvSpPr/>
          <p:nvPr/>
        </p:nvSpPr>
        <p:spPr>
          <a:xfrm>
            <a:off x="611280" y="59500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Παναγιώτης Ν. Μαντά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6 - Ορθογώνιο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1392120"/>
            <a:ext cx="799128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όσο στην Ευρώπη όσο και στις ΗΠΑ κατά την τελευταία δεκαετία, η νομοθεσία έχει δώσε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μφαση στα δικαιώματα των γονέων ώστε αυτοί να εκφράζουν τις προτιμήσεις και τις απόψε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υς και να κάνουν επιλογές όσον αφορ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ν τύπο του σχολείου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 μέριμνα που γίνεται για να διευθετηθούν οι ειδ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ές ανάγκες των παιδιών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5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6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εμπειρίες των γονέων και οι αντιλήψεις τους για τη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νταξη  επηρεάζουν σημαντικά τη διαμόρφωση της μελλοντική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έριμνας για τα παιδιά με ειδικές εκπαιδευτικές ανάγκες και ιδιαίτερα την έκταση και τη φύσ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ποιονδήποτε περαιτέρω κινήσεων προς την επίτευξη αποτελεσματικότερης ένταξη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68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69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παίζουν σημαντικό ρόλο στη διαδικασία της ένταξης. Σε πολλές χώρες ο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ταρρυθμίσεις και οι κανονισμοί που αφορούν την ειδική εκπαίδευση παρέχουν οδηγίες γι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ν ενεργή εμπλοκή και συμμετοχή των γονέων στην εκπαίδευση των παιδιών τους ενώ κατά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ις τελευταίες δύο δεκαετίες έχουν γίνει αρκετές μελέτες που εξετάζουν τις απόψεις και τ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ησυχίες των γονέω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77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78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θεωρούνται οι πιο κατάλληλοι αξιολογητές τόσο της εκπαιδευτικής διαδικασίας όσο και των εκπαιδευτικών υπηρεσιών που δέχονται τα παιδιά τους από τους εκπαιδευτικούς γενικής και ειδικής εκπαίδευσ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Jinnah&amp;Walters,2008). (Lindsay&amp;Dockrell,200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86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87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42560" y="1484280"/>
            <a:ext cx="7596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οσδοκίες και οι απαιτήσεις των γονέων ως προς την εκπαιδευτική δράση και τ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ές υπηρεσίες που προσφέρονται στο παιδί τους, αποτελούν τον βασικότερ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γοντα για μια επιτυχημένη εκπαιδευτική διαδικασία(Lindsay&amp;Dockrell,200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95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96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50920" y="1197000"/>
            <a:ext cx="8642160" cy="458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τρέχοντας σε παλαιότερες βιβλιογραφικές αναφορές, έρευνες έχουν δείξει (McDonnell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1987; Ryndak, Downing, Jacqueline &amp; Morisson, 1995) πως οι γονείς παιδιών με ειδ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ές ανάγκες διατυπώνουν γενικά θετικές απόψεις και αντιλήψεις προς την ένταξη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04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05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50920" y="1197000"/>
            <a:ext cx="8642160" cy="458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ε σχετικά πρόσφατη έρευνα που πραγματοποιήθηκε από τους Leyser and Kirk (2004) βρήκ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υψηλότερα ποσοστά υποστήριξης από τους γονείς παιδιών με ήπιες αναπηρίες σε σύγκριση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ονείς παιδιών με πιο βαριάς μορφής αναπηρίε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13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14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34:10Z</dcterms:created>
  <dc:creator>Maria Petmesidou</dc:creator>
  <dc:description/>
  <dc:language>en-US</dc:language>
  <cp:lastModifiedBy>user</cp:lastModifiedBy>
  <dcterms:modified xsi:type="dcterms:W3CDTF">2021-02-18T21:56:57Z</dcterms:modified>
  <cp:revision>151</cp:revision>
  <dc:subject/>
  <dc:title>Παρουσίαση του PowerPoint</dc:title>
</cp:coreProperties>
</file>